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ABA195-D192-495E-9DBC-6A303C6BE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6F6E37-E6E0-4B8C-9A4D-CBC324A17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82228A-86B2-4D7C-B03A-C9BBC3F966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F19937-ECA7-4CFC-B410-87C883B4FF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85BD3-FAB8-4BA7-B700-9B33BDCEF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0B39D-8F29-42C8-B7A5-11797AB6C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2F29B-0F36-4653-A69D-4BC9962FB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C25AD-499B-4DCF-9AAD-D3113AD14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91357-BA71-4B49-B567-BCEE91B3C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2A4D6-2DA2-4D38-AF71-8E0FB666C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FDB86-BB1F-4901-9987-8A9DF638F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9A7C5B-DE96-4EEB-8764-D92076D55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04620-BA53-42C4-B074-8EBF5981A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F171F-921E-47B0-AF43-FA5E78174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D1E46-8797-4C32-9DF3-399919BF3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76850-CC39-4454-AD8C-B850568DCB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1872D-96EB-4592-B1E3-2BBCDEA44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8DDB6A-AF6D-4A87-B8FA-254847F95F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F7276E-E68E-48FE-9B88-C93E11E8C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D593E1-1EB3-4575-8296-CCB2036D18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561F3F-AB30-4841-AD10-53EC1B12F8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4E254E-857C-4D97-A8EE-7DFA1CFEC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FA8A33-7FA1-4EA7-AC50-75E1E5753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338730-6E6F-4134-992F-2A1B85074A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9600-6733-4245-BF2E-565152AA9D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4135-2CBA-4153-8978-76912526AF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Software Configuration Management – 4</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360" rIns="90360" tIns="44280" bIns="44280" anchor="t">
            <a:no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36</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C3E1E4E-7D0F-41B0-8383-9658112732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for Managing Versions of Software Artifacts - 4</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che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necessary conditions for creating a branch</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necessary conditions for merging a branch back into it source codeline</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maximum period that an artifact can undergo change without being saved within the configuration management syste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B5AF6D-4F22-4512-BC20-C8CCB9D754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for Managing Versions of Software Artifacts - 5</a:t>
            </a: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pace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can read and write artifacts of a workspace</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can add artifacts to a workspace or delete them from a workspa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C24301-CB12-45CA-ABA7-674B3ACDA7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actices for Controlling Changes to Software Artifacts</a:t>
            </a:r>
            <a:endParaRPr b="0" lang="en-US" sz="5000" spc="-1" strike="noStrike">
              <a:solidFill>
                <a:srgbClr val="ffffff"/>
              </a:solidFill>
              <a:latin typeface="Arial"/>
            </a:endParaRPr>
          </a:p>
        </p:txBody>
      </p:sp>
      <p:sp>
        <p:nvSpPr>
          <p:cNvPr id="12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2306D8D-DBB0-4CED-ABD1-FA62E3122D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for Controlling Changes to Software Artifacts - 1</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identified software def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defined process for requesting and approving change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change control board</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hange packages (aggregate collection of related changes)</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defect repairs to existing releases and ongoing development effor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74A13E-0B3E-4F6C-B0CB-E804A1E93C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actices for Building Software Systems</a:t>
            </a:r>
            <a:endParaRPr b="0" lang="en-US" sz="5000" spc="-1" strike="noStrike">
              <a:solidFill>
                <a:srgbClr val="ffffff"/>
              </a:solidFill>
              <a:latin typeface="Arial"/>
            </a:endParaRPr>
          </a:p>
        </p:txBody>
      </p:sp>
      <p:sp>
        <p:nvSpPr>
          <p:cNvPr id="13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2F8DBD6-8EE8-4B5F-BCE7-6B58499608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for Building Software Systems</a:t>
            </a:r>
            <a:endParaRPr b="0" lang="en-US" sz="40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hared, static build processes and too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software on a regular, preferably daily, bas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812B4C-CE6B-4089-9723-02A35746D7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actices for Releasing Software Systems</a:t>
            </a:r>
            <a:endParaRPr b="0" lang="en-US" sz="5000" spc="-1" strike="noStrike">
              <a:solidFill>
                <a:srgbClr val="ffffff"/>
              </a:solidFill>
              <a:latin typeface="Arial"/>
            </a:endParaRPr>
          </a:p>
        </p:txBody>
      </p:sp>
      <p:sp>
        <p:nvSpPr>
          <p:cNvPr id="13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9F5318C-379A-48FF-BD6B-275309CC66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for Releasing Software Systems</a:t>
            </a:r>
            <a:endParaRPr b="0" lang="en-US" sz="40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unique read-only copy of each release</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ersion manifest should describe each software release</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artifacts that comprise a release should adhere to defined acceptance criteria</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figuration management tools should provide release updat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D339F9-6516-4F31-809F-EABDB1A48B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actices for Maintaining the Integrity of Software Artifacts</a:t>
            </a:r>
            <a:endParaRPr b="0" lang="en-US" sz="4200" spc="-1" strike="noStrike">
              <a:solidFill>
                <a:srgbClr val="ffffff"/>
              </a:solidFill>
              <a:latin typeface="Arial"/>
            </a:endParaRPr>
          </a:p>
        </p:txBody>
      </p:sp>
      <p:sp>
        <p:nvSpPr>
          <p:cNvPr id="14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BFD8FFD-6861-4AC2-9CE1-DE19AB5353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for Maintaining the Integrity of Software Artifacts</a:t>
            </a:r>
            <a:endParaRPr b="0" lang="en-US" sz="40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oftware tool to perform configuration management function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sitories should exist on reliable physical storage element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management repositories should undergo periodic backup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and confirm the backup process (</a:t>
            </a:r>
            <a:r>
              <a:rPr b="0" lang="en-US" sz="3200" spc="-1" strike="noStrike">
                <a:solidFill>
                  <a:srgbClr val="ff0000"/>
                </a:solidFill>
                <a:latin typeface="Arial"/>
              </a:rPr>
              <a:t>backup and restore repositor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DF8C70-9BF7-4333-9C81-5B84756AAB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last lecture, we introduced practical aspects of software configuration management and discussed seven real-world considerations related to software configuration managemen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configuration management is an integral part of software quality assurance program in any organiz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F4611B-6358-41A1-975D-0996CC777A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 Procedure for Creating a Configuration Management System</a:t>
            </a:r>
            <a:endParaRPr b="0" lang="en-US" sz="4600" spc="-1" strike="noStrike">
              <a:solidFill>
                <a:srgbClr val="ffffff"/>
              </a:solidFill>
              <a:latin typeface="Arial"/>
            </a:endParaRPr>
          </a:p>
        </p:txBody>
      </p:sp>
      <p:sp>
        <p:nvSpPr>
          <p:cNvPr id="14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1DBD16C-CB2C-44E0-96A5-9A532A9D9A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ure for Creating a CMS - 1</a:t>
            </a:r>
            <a:endParaRPr b="0" lang="en-US" sz="40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e highly reliable and redundant physical storage and processing elements for the software repository</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configuration management administrator, who is responsible for numerous tasks. The key tasks include</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eation of configuration management accounts and the assignment of capabilities to th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E0FE50-937B-4851-AA39-B1AC3040AD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ure for Creating a CMS - 2</a:t>
            </a:r>
            <a:endParaRPr b="0" lang="en-US" sz="40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lvl="1" marL="698400" indent="-2685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forcement of defined configuration management policies and procedures</a:t>
            </a:r>
            <a:endParaRPr b="0" lang="en-US" sz="2800" spc="-1" strike="noStrike">
              <a:solidFill>
                <a:srgbClr val="000000"/>
              </a:solidFill>
              <a:latin typeface="Arial"/>
            </a:endParaRPr>
          </a:p>
          <a:p>
            <a:pPr lvl="1" marL="698400" indent="-2685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ilding of internal and external deliveries</a:t>
            </a:r>
            <a:endParaRPr b="0" lang="en-US" sz="2800" spc="-1" strike="noStrike">
              <a:solidFill>
                <a:srgbClr val="000000"/>
              </a:solidFill>
              <a:latin typeface="Arial"/>
            </a:endParaRPr>
          </a:p>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 backup procedure to regularly back up configuration management repositories to nonvolatile storage and periodically purge them of redundant or useless data. This procedure should identify when incremental and full backups are do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EF73B5-D416-48B7-A01E-23FF78B20B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ure for Creating a CMS - 3</a:t>
            </a:r>
            <a:endParaRPr b="0" lang="en-US" sz="40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 procedure that verifies that the backup process functions correct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whether work must be authorized. If work must be authorized, the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change control board</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people to the change control board</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ules for approving changes to artifac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28D094-5DE2-4DA1-8B4D-4AE8E588CC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ure for Creating a CMS - 4</a:t>
            </a:r>
            <a:endParaRPr b="0" lang="en-US" sz="40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number of development lines. Typically, one is sufficient. If more than one development line is needed, the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the frequency of the integration of each development line</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number of new tasks that an individual can work on simultaneous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04A80B-8F2C-4933-85DD-AA7A12EB9E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ure for Creating a CMS - 5</a:t>
            </a:r>
            <a:endParaRPr b="0" lang="en-US" sz="40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ether parallel development is permitted</a:t>
            </a: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if branches can be created for tasks other than parallel development or the development of releases. If branches can be created then:</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can create the branches</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under what conditions the branches can be created</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the criteria for determining when merges are perform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B723D0-65F3-4A0E-9E0E-F087A530C9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ure for Creating a CMS - 6</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o can create workspaces</a:t>
            </a: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standard workspaces</a:t>
            </a: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information should be specified for each new development task, change request, and anomaly report. </a:t>
            </a:r>
            <a:r>
              <a:rPr b="0" lang="en-US" sz="2800" spc="-1" strike="noStrike">
                <a:solidFill>
                  <a:srgbClr val="ff0000"/>
                </a:solidFill>
                <a:latin typeface="Arial"/>
              </a:rPr>
              <a:t>Consider performing the following as required actions for each change request and anomaly report</a:t>
            </a:r>
            <a:endParaRPr b="0" lang="en-US" sz="28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stimate the size of the change</a:t>
            </a:r>
            <a:endParaRPr b="0" lang="en-US" sz="24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dentify any alternative solutions</a:t>
            </a:r>
            <a:endParaRPr b="0" lang="en-US" sz="24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dentify the complexity of the change and the impact on other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4CD0F6-EB70-42CF-B509-B0138432E7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ure for Creating a CMS – 6-1</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dentify when the need exist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dentify the effect the change will have on subsequent work</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stimate the cost of the change</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dentify the criticality of the change request</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dentify if another change request will solve this problem</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dentify the effort to verify the chang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A3814B-D92E-42FC-9E2F-619A197DA6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cedure for Creating a CMS – 6-2</a:t>
            </a:r>
            <a:endParaRPr b="0" lang="en-US" sz="36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dentify who will verify the chang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dentify whether the right people are available to work on the reques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dentify the impact on critical system resources, if this is an issu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dentify the length of time that the change request has been pend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CDFAB7-35B2-4A0C-A08C-06915D8098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ure for Creating a CMS - 7</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metrics to gather</a:t>
            </a:r>
            <a:endParaRPr b="0" lang="en-US" sz="32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 of change requests submitted</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 of change requests reviewed and approved for resolution</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 of change requests resolved and length of resolution</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 of anomaly reports submitted</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 of anomaly reports reviewed and approved for corr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BC4C6E-5D58-4866-BF73-7991C18EC7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onfiguration Management Best Practices</a:t>
            </a:r>
            <a:endParaRPr b="0" lang="en-US" sz="5000" spc="-1" strike="noStrike">
              <a:solidFill>
                <a:srgbClr val="ffffff"/>
              </a:solidFill>
              <a:latin typeface="Arial"/>
            </a:endParaRPr>
          </a:p>
        </p:txBody>
      </p:sp>
      <p:sp>
        <p:nvSpPr>
          <p:cNvPr id="11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D0143D1-064F-4484-A4A2-E90D4B00FF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cedure for Creating a CMS – 7-1</a:t>
            </a:r>
            <a:endParaRPr b="0" lang="en-US" sz="36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 of anomaly reports corrected and length of correc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 of artifacts chang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 of artifacts changed more than once (these should be characterized by the number of changes and frequency of the chang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30836D-3963-4918-8689-3ADC299CD5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ure for Creating a CMS - 8</a:t>
            </a:r>
            <a:endParaRPr b="0" lang="en-US" sz="40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e a configuration management tool that is able to manage software configurations, document identified software defects, and produce software releas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e the policies, practices, and procedures as much as possi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0193E3-94C0-4CC0-8000-55E888E77E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971800" y="1828800"/>
            <a:ext cx="6019920" cy="2209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Best Change Control Practices Industry-Wise </a:t>
            </a:r>
            <a:endParaRPr b="0" lang="en-US" sz="5000" spc="-1" strike="noStrike">
              <a:solidFill>
                <a:srgbClr val="ffffff"/>
              </a:solidFill>
              <a:latin typeface="Arial"/>
            </a:endParaRPr>
          </a:p>
        </p:txBody>
      </p:sp>
      <p:sp>
        <p:nvSpPr>
          <p:cNvPr id="16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4E740B4-4BE8-44A3-B197-67204FC0D97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st Change Control Practices Industry-Wise</a:t>
            </a:r>
            <a:endParaRPr b="0" lang="en-US" sz="40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 software proj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sourced software proj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software proj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rcial software proj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software pro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BA2A41-2AF5-4E3C-836B-96AC0135C6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 Software Projects - 1</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3000"/>
          </a:bodyPr>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Control Boards</a:t>
            </a:r>
            <a:endParaRPr b="0" lang="en-US" sz="32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projects larger that 5,000 function points</a:t>
            </a:r>
            <a:endParaRPr b="0" lang="en-US" sz="28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B usually has three to seven people</a:t>
            </a:r>
            <a:endParaRPr b="0" lang="en-US" sz="28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ed Change Control</a:t>
            </a:r>
            <a:endParaRPr b="0" lang="en-US" sz="32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deliverables, which include requirements, specifications, design documents, source code, test plans, user documentation, and training material</a:t>
            </a:r>
            <a:endParaRPr b="0" lang="en-US" sz="2800" spc="-1" strike="noStrike">
              <a:solidFill>
                <a:srgbClr val="000000"/>
              </a:solidFill>
              <a:latin typeface="Arial"/>
            </a:endParaRPr>
          </a:p>
          <a:p>
            <a:pPr lvl="1" marL="690840" indent="-2656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should flag recommended chang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4924DA-C785-4F86-A081-0224A008685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 Software Projects - 2</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 Metrics for Chang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projects larger than 15 function points in size, estimate and measure the function totals of all changes to software proj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hanges include requirements creep, removal (or deferral) of  feature, and requirements chur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8DE960-DDBA-44F9-9AE9-3A2075EC1F3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sourced Software Projects - 1</a:t>
            </a:r>
            <a:endParaRPr b="0" lang="en-US" sz="40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r outsource vendors are often quite expert in implementing change control mechanisms</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n application has been deployed, new features and modifications average approximately 7% per year for several years in a row (i.e., new and changed features will approximate 7% of function poi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E1EDE3-4F12-41C3-8AE4-78CF658FDBD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sourced Software Projects - 2</a:t>
            </a:r>
            <a:endParaRPr b="0" lang="en-US" sz="40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Estimation and Costing in Contracts</a:t>
            </a:r>
            <a:endParaRPr b="0" lang="en-US" sz="32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clauses for change control are included in the outsource agreements</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ms of clauses vary with specific needs of the client, but are often based on the predicted volumes of the changes</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set of requirements have a fixed price, but new requirements will be included at a higher pric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ADC72E-C754-4B13-969C-98184B0D863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sourced Software Projects - 3</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 Metrics for Changes</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and measure the function point totals of all changes to software projects larger than 15 function points</a:t>
            </a:r>
            <a:endParaRPr b="0" lang="en-US" sz="28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Control Boards</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projects larger that 5,000 function point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B usually has three to seven peop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D064B5-85A2-4276-87F2-7C4E6571076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sourced Software Projects - 4</a:t>
            </a:r>
            <a:endParaRPr b="0" lang="en-US" sz="40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ed Change Control</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deliverables, which include requirements, specifications, design documents, source code, test plans, user documentation, and training material</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should flag recommended chang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change control tools that support only source code are adequate for projects larger than 100 function poi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3C739A-27E8-4B48-9224-875B3A7FB25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figuration management system establishes and maintains the integrity of software artifacts and their configurations throughout the software development life cycl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figuration management system includes the set of policies, practices, procedures, and tools that help an organization maintain its softwa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AB39FE-0637-4294-B83F-5775C937B4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Software Projects - 1</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se kinds of projects, changes during development can occur for a much wider variety of reasons than those found with internal information syste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software control physical devic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90E333-0DC2-42DE-B923-8834C960FA9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Software Projects - 2</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Control Board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projects larger that 10,000 function poin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B usually has three to seven people</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client</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office</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team</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portion of the applic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2DF2FC-DA69-40A7-8FB6-04306CFB414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Software Projects - 3</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ed Change Control</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deliverables, which include requirements, specifications, design documents, source code, test plans, user documentation, and training material</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should flag recommended chang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change control tools that support only source code are adequate for projects larger than 100 function poi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5D280D-9D05-47B2-B1F6-677D19C80C7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Software Projects - 4</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 Metrics for Chang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and measure the function point totals of all changes to software projec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ata can be used for charge-backs and billing, and to ascertain monthly rate of requirements creep</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940119-84DE-4F4C-924D-0328164E9C2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Software Projects - 5</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Estimates for Chang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estimating changes and cost measurement of changes are both difficul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utomated estimation tools and function point metric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0338A0-74D9-43F0-9BFA-6C105DC1B85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Software Projects - 6</a:t>
            </a: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Tracing and Chang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esign feature and even each code module is traced back to specific requiremen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tracking requires fairly sophisticated automation, and also demand a formal change control board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127039-279A-45E4-B6EB-D2C4A089FCD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ercial Software Projects - 1</a:t>
            </a:r>
            <a:endParaRPr b="0" lang="en-US" sz="40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rcial software vendors may market the same application on different hardware platfor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ay offer the same application in different national languag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ajor changes occur, they affect dozens of versions at the same tim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C3FD33-FE26-42B0-A105-894530E2334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ercial Software Projects - 2</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control is a key technology for commercial software vendo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ed Change Contro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A2BC80-4775-4192-B612-4F458B88E84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itary Software Projects - 1</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litary software community was an early adopter of change control packag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control starts during initial development and continues until an application is retir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3CE3A2-CA4B-440A-B25B-41534B96AFB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itary Software Projects - 2</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Control Board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projects larger that 10,000 function point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B usually has three to seven people</a:t>
            </a:r>
            <a:endParaRPr b="0" lang="en-US" sz="2800" spc="-1" strike="noStrike">
              <a:solidFill>
                <a:srgbClr val="000000"/>
              </a:solidFill>
              <a:latin typeface="Arial"/>
            </a:endParaRPr>
          </a:p>
          <a:p>
            <a:pPr lvl="2" marL="1143000" indent="-2286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client</a:t>
            </a:r>
            <a:endParaRPr b="0" lang="en-US" sz="2400" spc="-1" strike="noStrike">
              <a:solidFill>
                <a:srgbClr val="000000"/>
              </a:solidFill>
              <a:latin typeface="Arial"/>
            </a:endParaRPr>
          </a:p>
          <a:p>
            <a:pPr lvl="2" marL="1143000" indent="-2286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office</a:t>
            </a:r>
            <a:endParaRPr b="0" lang="en-US" sz="2400" spc="-1" strike="noStrike">
              <a:solidFill>
                <a:srgbClr val="000000"/>
              </a:solidFill>
              <a:latin typeface="Arial"/>
            </a:endParaRPr>
          </a:p>
          <a:p>
            <a:pPr lvl="2" marL="1143000" indent="-2286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team</a:t>
            </a:r>
            <a:endParaRPr b="0" lang="en-US" sz="2400" spc="-1" strike="noStrike">
              <a:solidFill>
                <a:srgbClr val="000000"/>
              </a:solidFill>
              <a:latin typeface="Arial"/>
            </a:endParaRPr>
          </a:p>
          <a:p>
            <a:pPr lvl="2" marL="1143000" indent="-2286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portion of the application for hybrid proj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0BDE9F-06DB-45FF-8C7F-E36F8A989B6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will discuss software configuration management best practices with respect to different aspects of software configuration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3D5FA-9D2E-4C09-B5C6-3B69DA9DD1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itary Software Projects - 3</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ed Change Contro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deliverables, which include requirements, specifications, design documents, source code, test plans, user documentation, and training materia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should flag recommended chang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one of the 16 best practices identified by the Airlie Counci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F90C6A-FD16-4796-A0A8-673E4D6779C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itary Software Projects - 4</a:t>
            </a: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Point Metrics for Chang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and measure the function point totals of all changes to military projec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ata can be used to ascertain the monthly rate of requirements creep</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Estimates for Chang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stimating changes and cost measurement of changes are both difficul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utomated estimation tools and function point metric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B5684B-B9F9-41DF-AD21-92C0105D831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itary Software Projects - 5</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Tracing and Chang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esign feature and even each code module is traced back to specific requiremen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tracking requires fairly sophisticated automation, and also demand a formal change control boar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control in the military domain is not limited only to software chang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39DE7B-338C-468D-872B-3659ADF8999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kind of software project, employ best practices for change control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A8AB19-FD00-4B45-8843-3A64C87E1A6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Quality Practices by Ronald K. Kandt, Auerbach Publications, 2006 (Chapter 5)</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Assessments, Benchmarks, and Best Practices by Capers Jones, AW 2000 (Chapters </a:t>
            </a:r>
            <a:r>
              <a:rPr b="0" lang="en-US" sz="3200" spc="-1" strike="noStrike">
                <a:solidFill>
                  <a:srgbClr val="ff0000"/>
                </a:solidFill>
                <a:latin typeface="Arial"/>
              </a:rPr>
              <a:t>nn</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E134B5-8CCE-4BFC-B799-C56B6204B311}" type="slidenum">
              <a:t>54</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actices for Managing Versions of Software Artifacts</a:t>
            </a:r>
            <a:endParaRPr b="0" lang="en-US" sz="5000" spc="-1" strike="noStrike">
              <a:solidFill>
                <a:srgbClr val="ffffff"/>
              </a:solidFill>
              <a:latin typeface="Arial"/>
            </a:endParaRPr>
          </a:p>
        </p:txBody>
      </p:sp>
      <p:sp>
        <p:nvSpPr>
          <p:cNvPr id="11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738F6B6-035D-409D-AD3D-ECC69A2E6A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for Managing Versions of Software Artifacts - 1</a:t>
            </a:r>
            <a:endParaRPr b="0" lang="en-US" sz="40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ource artifacts should be under configuration control</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rtifacts used to produce an artifact of a delivery should be under configuration control</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in managed, private workspac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6FBCEE-814C-4838-8AE2-197AF588D3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for Managing Versions of Software Artifacts - 2</a:t>
            </a:r>
            <a:endParaRPr b="0" lang="en-US" sz="40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artifacts at the completion of intermediate steps of a larger change</a:t>
            </a:r>
            <a:endParaRPr b="0" lang="en-US" sz="3200" spc="-1" strike="noStrike">
              <a:solidFill>
                <a:srgbClr val="000000"/>
              </a:solidFill>
              <a:latin typeface="Arial"/>
            </a:endParaRPr>
          </a:p>
          <a:p>
            <a:pPr marL="609480" indent="-60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rly synchronize development with the work of others</a:t>
            </a:r>
            <a:endParaRPr b="0" lang="en-US" sz="3200" spc="-1" strike="noStrike">
              <a:solidFill>
                <a:srgbClr val="000000"/>
              </a:solidFill>
              <a:latin typeface="Arial"/>
            </a:endParaRPr>
          </a:p>
          <a:p>
            <a:pPr marL="609480" indent="-60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policies of branches, codelines, and workspac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FBC956-BD74-466A-8C71-E83FDCF72D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for Managing Versions of Software Artifacts - 3</a:t>
            </a:r>
            <a:endParaRPr b="0" lang="en-US" sz="40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line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many development codelines are avilable and name each one – typically one</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often development codelines must be integrated</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can make changes to a codeline, and under what circumstance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if parallel or non-parallel development is permitted for each codeli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00D266-B920-473B-8540-5310E1CBC4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6T05:58:02Z</dcterms:created>
  <dc:creator>Ghulam Ahmad Farrukh</dc:creator>
  <dc:description/>
  <dc:language>en-US</dc:language>
  <cp:lastModifiedBy>ahmadmohsin</cp:lastModifiedBy>
  <dcterms:modified xsi:type="dcterms:W3CDTF">2009-06-22T05:14:58Z</dcterms:modified>
  <cp:revision>248</cp:revision>
  <dc:subject/>
  <dc:title>SCM and Quality Assurance</dc:title>
</cp:coreProperties>
</file>